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6DE-B803-4880-8E26-F8174991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AFF-CC8A-4E58-A4E8-40DEFE33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23D-2CD7-41D3-A954-88F30A95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F22-959C-4E8A-8222-DE0C9B15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2F17-9662-4C56-8A5D-CCE2CBF4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BAD0-51F5-47E2-A784-D6D58D4A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89CF-1EF3-43B0-9B12-D7F3AA04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A71C-4DCE-4AE3-B77E-56C621B2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A03D-A095-4F47-BBF5-3242DC36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8B93-2852-4F15-B783-E10D9A3C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447B-6397-4E4B-B7CC-370EB91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813-F330-4607-953A-AF0385C9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1A3D-2FE5-4348-9918-94BA0A6F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DBE2-2B13-4483-99BD-F5D856C4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79AA-9FBF-423E-B531-A9ECD629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9545-DF4D-43EF-A542-935DA121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7F66-613D-4C9E-A50D-20D00280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5C1-EBFE-4162-A1F6-D0679629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9A2-03F6-4E82-BB3B-A4074900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C02-7A4D-4EA6-913A-CD73FC29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426-E068-454B-ABE5-8F72FE3C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393-B5C2-494A-922B-12FAB7CA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3A6B-A375-48BE-A0B0-F954488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C4A-B612-4AB7-8B21-92423836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2A00-944C-43FB-A930-C7A6F57FC11F}" type="slidenum"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880C-5DDA-49FA-9536-431C1375CE9F}" type="slidenum"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545"/>
                </a:solidFill>
                <a:latin typeface="Impact"/>
              </a:rPr>
              <a:t>Die Zukunft des Handys</a:t>
            </a:r>
            <a:endParaRPr b="0" lang="en-US" sz="48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6600"/>
                </a:solidFill>
                <a:uFillTx/>
                <a:latin typeface="Arial Narrow"/>
              </a:rPr>
              <a:t>Hat bereits begonnen ..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Entwicklungsbereiche des Handy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nergieversorgu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biles TV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andy als Zahlungsmitt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ere nützliche Spielerei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Desig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punkto Design wird sich ständig etwas weiterentwickeln. Das Aussehen der Handys wird immer eigentümlicher und zugleich modischer werden. Außerdem werden sie immer leichter und kleine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75284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Energieversorgung</a:t>
            </a:r>
            <a:br>
              <a:rPr sz="4400"/>
            </a:br>
            <a:r>
              <a:rPr b="0" lang="en-US" sz="2400" spc="-1" strike="noStrike">
                <a:solidFill>
                  <a:srgbClr val="ffc545"/>
                </a:solidFill>
                <a:latin typeface="Impact"/>
              </a:rPr>
              <a:t>Brennstoffzelle ersetzt Akku</a:t>
            </a:r>
            <a:endParaRPr b="0" lang="en-US" sz="2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der abnehmbaren Ladestation des Handys befindet sich die Brennstoffzelle, die mit Methanol-Patronen befüllt wird. Die Abfallprodukte der chemischen Reaktion sind Wasser und Kohlendioxid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733920" cy="280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Mobiles TV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Berlin läuft derzeit der Versuch, Fernsehen auf das Handy zu bringen. Videodateien können aber bereits auf abspielfähigen Geräten wiedergegeben werden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 einer Universität wurde bereits an einer Software gearbeitet, die z.B. Jugendlichen in Zukunft als Museumsführer dienen sol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blinds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Handy als Zahlungsmitte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Japan bereits erhältlich, soll es auch bei uns in geraumer Zukunft Mobiltelefone geben, die als „Geldbörsen“ (Chip) diene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 sollte dann mit dem Handy auch Strichcodes einscannen können, damit das Gerät dann die Preise im Internet vergleicht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Zahlen in Österreich schon möglich!!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98560" y="1981080"/>
            <a:ext cx="338292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Andere nützliche Spielereien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r Kreativität der Handy-Firmen sind keine Grenzen gesetzt. Es werden immer neuere Funktionen hinzugefügt werden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eruchserkennungschips, Brandmelder, Benutzeridentifikation mit Hilfe eines Fingerabdruckscanners, Alkotester, ..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2371680"/>
            <a:ext cx="4191120" cy="3056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6:44:49Z</dcterms:created>
  <dc:creator>Johann Kendlbacher</dc:creator>
  <dc:description/>
  <dc:language>en-US</dc:language>
  <cp:lastModifiedBy>Bischöfliches Gymnasium</cp:lastModifiedBy>
  <dcterms:modified xsi:type="dcterms:W3CDTF">2005-06-12T09:10:05Z</dcterms:modified>
  <cp:revision>5</cp:revision>
  <dc:subject/>
  <dc:title>Die Zukunft des Handys</dc:title>
</cp:coreProperties>
</file>